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152-020D-49EF-9285-F9E2A2AA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889-85AC-42F4-B573-0A4AAE19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9E8-4874-4784-8C6E-3A7D3940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71B-1B1A-424F-BD1A-B718C4CE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5DBB-26DD-4D81-848E-80642E79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C855-7137-4B8C-AA18-667AF74C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7421-1B8B-4F12-832F-E977A91F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6E24-D44C-4FCF-90D4-18B69069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9217-21B6-4164-BE21-754127EA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C5BA-3493-48B7-89C8-352E51AD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5E18-22CF-40B3-806E-8D6EAB30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672-01A5-41DC-AD89-54C83899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AF89-963D-4457-9E17-AFCFDC8E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9FDC-D6BA-490E-AE56-FC650BF1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E400-9080-4246-921F-5BAA1B32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1C57-5C40-414B-BFA1-97DE4558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EDB8-1AAD-4980-A95E-A2918F08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7B4B-5F12-4919-9AC6-39216C31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609C-67D9-48ED-9E64-345D3D85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2F3-B827-43B3-84F6-8BAC9EBB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51E-0F91-4C81-BA4B-7D0190A3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1B4-52BB-4050-91DA-44A77605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91A-F465-4EB4-9218-2A9EE98E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ADE-D5D8-4610-BCE4-47901E92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33B8-2C08-4CDB-B42F-F4FCFD464C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1176-35E0-47DA-A504-4A300B3FCD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ou’re Smarter than a Data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vercoming the optimizer’s bad cardinality estima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to fix cardinality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out if it really is a cardinality iss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the reason it occur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olum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olum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a strate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the optimizer mor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ride optimizer dec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th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ur 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 examples of how the optimizer calculates cardi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scripts and their outputs on portal, pieces on slides – edited for simpli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1: Find out if it really is a cardinality iss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864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1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a,count(*) from test1 group by 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  COUNT(*)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--------- ----------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         1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* from test1 where a=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1: Find out if it really is a cardinality iss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8640" y="2209680"/>
            <a:ext cx="8955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 estimated cardinality from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Id  | Operation         | Name  | Rows  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  0 | SELECT STATEMENT  |       |    10 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*  1 |  TABLE ACCESS FULL| TEST1 |    10 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query for actual number of r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count(*) from test1 where a=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1: Find out if it really is a cardinality iss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8640" y="2209680"/>
            <a:ext cx="8955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 is a tree – find cardinality and select count(*) on part of query represented by that part of p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895480" y="3176640"/>
            <a:ext cx="5410080" cy="3528720"/>
            <a:chOff x="2895480" y="3176640"/>
            <a:chExt cx="5410080" cy="3528720"/>
          </a:xfrm>
        </p:grpSpPr>
        <p:sp>
          <p:nvSpPr>
            <p:cNvPr id="133" name=""/>
            <p:cNvSpPr/>
            <p:nvPr/>
          </p:nvSpPr>
          <p:spPr>
            <a:xfrm>
              <a:off x="4306680" y="3176640"/>
              <a:ext cx="1175760" cy="70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o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4588920"/>
              <a:ext cx="1176120" cy="70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18240" y="4588920"/>
              <a:ext cx="1175760" cy="704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o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071600" y="3882240"/>
              <a:ext cx="234720" cy="70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482440" y="3882240"/>
              <a:ext cx="235080" cy="70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6680" y="6001200"/>
              <a:ext cx="1175760" cy="704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29800" y="6001200"/>
              <a:ext cx="1175760" cy="704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482800" y="5294520"/>
              <a:ext cx="235080" cy="70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6894000" y="5293080"/>
              <a:ext cx="235080" cy="70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2: Understand the reason for the wrong cardin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qual distribution of dat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 single colum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ith” or “Jones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ng multiple columns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pcode and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2: Understand the reason for the wrong cardin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2 - Unequal distribution of values in a single colum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74680" indent="-105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00,000 rows with valu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74680" indent="-105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row with valu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 a,count(*) from TEST2 group by 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  COUNT(*)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 ----------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   1000000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        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2: Understand the reason for the wrong cardin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QL statement – returns one 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* from TEST2 where a=2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2: Understand the reason for the wrong cardin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 with wrong number of rows = 500,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scan instead of range scan – 100 times slow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Operation            | Name       | Rows  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SELECT STATEMENT     |            |   500K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INDEX FAST FULL SCAN| TEST2INDEX |   500K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2: Understand the reason for the wrong cardin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umn statistics – two distinct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W       HIGH NUM_DISTIN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 ---------- 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         2           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statistic – total # of rows – 1,000,0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_R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0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out 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bby Durre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 Food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bbyandmarielle@yahoo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ripts in http://www.geocities.com/bobbyandmarielle/sqltuning.zi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2: Understand the reason for the wrong cardin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ws in plan = (rows in table)/  (distinct values of colum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00000=1000001/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izer knew that there were only two values – assumed they had equal number of row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2: Understand the reason for the wrong cardin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55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3 - Combinations of column values not equally distrib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000,000 rows with values 1,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000,000 rows with values 2,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row with value 1,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 Equal numbers of 1’s and 2’s in each colum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  B   COUNT(*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-------- ---------- ---------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         1    1000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         2        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         2    1000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2: Understand the reason for the wrong cardin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QL statement – retrieves one 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sum(a+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om TEST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=1 and b=2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2: Understand the reason for the wrong cardin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 with wrong number of rows = 500,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 full sc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Operation             | Name       | Rows  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SELECT STATEMENT      |            |     1 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 SORT AGGREGATE       |            |     1 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  INDEX FAST FULL SCAN| TEST3INDEX |   500K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2: Understand the reason for the wrong cardin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umn stat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       LOW       HIGH NUM_DISTIN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---------- ---------- -----------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  1          2           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  1          2           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statistic – total # of rows – 2,000,0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_R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00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2: Understand the reason for the wrong cardin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ws in plan = (rows in table)/    (distinct values A * distinct values 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00000=2000001/(2 * 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izer assumes all four combinations (1,1),(1,2),(2,1),(2,2) equally lik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2: Understand the reason for the wrong cardin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ow to tell which assumption is in play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count(*) each colum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a,count(*) from TEST3 group by 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b,count(*) from TEST3 group by b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nt(*) each column comb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a,b,count(*) from TEST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roup by a,b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ing the optimizer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QL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riding optimizer deci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ing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use optimizer as much as possible to minimize development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ing the optimizer more information – using hist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for unequal distribution within a single colum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histogram records the distribution of values within a column in up to 254 “bucket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best on columns with fewer than 255 distinct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gather_table_stats command to get histograms on the column – 254 is max number of buck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thod_opt=&gt;'FOR ALL COLUMNS SIZE 254'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you know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990720"/>
          <a:ext cx="89917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8991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 for Example 2 with correct number of rows with hist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range s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Operation        | Name       | Rows  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SELECT STATEMENT |            |     1 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 INDEX RANGE SCAN| TEST2INDEX |     1 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umn statistics – two bu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       HIGH NUM_DISTINCT NUM_BU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-------- ---------- ------------ ----------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         2            2          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le statistic –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_RO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000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without histograms (1 second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lapsed: 00:00:01.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with histograms(1/100th second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lapsed: 00:00:00.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ing the optimizer more information – using SQL Pro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for unequal distribution among multiple colum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s information about the relationship between columns in the SQL – correlated columns or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QL Tuning Advisor gathers statistics on the colum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DBMS_SQLTUNE.CREATE_TUNING_TASK(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DBMS_SQLTUNE.EXECUTE_TUNING_TASK(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 the SQL Profile it creates to use the new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DBMS_SQLTUNE.ACCEPT_SQL_PROFILE (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3 plan with correct number of rows = 1 using SQL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Operation         | Name       | Rows  | Bytes 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SELECT STATEMENT  |            |     1 |     6 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SORT AGGREGATE   |            |     1 |     6 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INDEX RANGE SCAN| TEST3INDEX |     1 |     6 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-----------------------------------------------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without a profile (1 second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lapsed: 00:00:01.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with a profile(1/100th second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lapsed: 00:00:00.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riding optimizer decisions – using h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4 has unequal distribution of column values across two tables – histograms and SQL Profiles don’t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nt forces index range sc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amount of additional code – not like Cobol on main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955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4 - SMALL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relates to 1 – there are many rows with valu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relates to 2 – there are few with value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ert into SMALL values ('MANY',1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ert into SMALL values ('FEW',2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55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4 - LARGE t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000,000 rows with valu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row with value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UM   COUNT(*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---------- ---------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1    100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2         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the database know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762120"/>
          <a:ext cx="9144000" cy="60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QL statement – returns one 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B.N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om SMALL A,LARGE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.NUM=B.NUM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.NAME='FEW'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with wrong number of rows = 125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Operation             | Name       | Rows  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SELECT STATEMENT      |            |   125K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 HASH JOIN            |            |   125K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  TABLE ACCESS FULL   | SMALL      |     1 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  INDEX FAST FULL SCAN| LARGEINDEX |  1000K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lumn statistics – two buckets on all columns – using histogra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       HIGH NUM_DISTINCT NUM_BU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-------- ---------- ------------ ----------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         2            2          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  HIGH NUM_DISTINCT NUM_BU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-- ---- ------------ ----------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EW  MANY            2          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able statistics – SMALL has 2 rows, LARGE 100000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_RO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_RO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000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5000=1000001/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izer appears to assume all eight combinations of the three columns’ values are equally lik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’t verify formula – references don’t include formula with hist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worse without histograms – cardinality is 500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QL profile from SQL Tuning Advis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re are no recommendations to improve the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ither histograms nor SQL profiles help example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15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with hi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do full sc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 /*+ INDEX(B LARGEINDEX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_INDEX_FFS(B LARGEINDEX)  */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.N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om SMALL A,LARGE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NUM=B.NUM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NAME='FEW'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without a hint (1 second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lapsed: 00:00:01.0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with a hint (1/100th second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lapsed: 00:00:00.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ing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your tables so that the optimizer gets your SQL’s cardinality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more work designing tables, but keeps productivity benefits of SQ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4 – moved NAME column to LARGE table and split table in tw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million (‘MANY’,1) rows in LARG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(‘FEW’,2) row in LARG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r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 N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om (select * from larg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 * from large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='FEW'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fore SQ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ample - mainframe Datacom/DB COB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 index n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ite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d a from one index i1 where one.c=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more table one rows exist get next r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d b from two index i2 where two.a = one.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more table two rows exist get next r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one.a,two.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wh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wh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 is just as efficient as with h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rows = 2 (reality is 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S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| Id  | Operation                      | Name        | Rows 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|   0 | SELECT STATEMENT               |             |     2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|   1 |  VIEW                          |             |     2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|   2 |   SORT UNIQUE                  |             |     2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|   3 |    UNION-ALL                   |             |      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|   4 |     TABLE ACCESS BY INDEX ROWID| LARGEA      |     1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|*  5 |      INDEX RANGE SCAN          | LARGEAINDEX |     1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|   6 |     TABLE ACCESS BY INDEX ROWID| LARGEB      |     1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|*  7 |      INDEX RANGE SCAN          | LARGEBINDEX |     1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p 3:  Choose the best strategy for fixing the cardinality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without table change (1 second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lapsed: 00:00:01.0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with table change (1/100th second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lapsed: 00:00:00.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QL improves productivity, optimizer has lim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cases where cardinality is wr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why the database got it wr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colum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best strategy to f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optimizer mor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optimizer’s cho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esign 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 Based Optimizer Fundamentals, Jonathan Lew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ink Note:212809.1, Limitations of the Oracle Cost Based Optim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ink Note:68992.1, Predicate Sel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grams – Myths and Facts, Wolfgang Breitling                                  Select Journal, Volume 13, Number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Q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ll what you want, not how to get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 one.a,two.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ro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ne,tw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ne.c=10 and one.a=two.a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-SQL versus SQ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-SQL code very efficient – runs in megabytes – VSE mainframe COB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or inten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QL can be inefficient – runs in gigabytes (if you are lucky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ch more productive – do in minutes what took hours before – create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the database doesn’t kn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izer has a limited set of statistics that describe the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can miscalculate the number of rows a query will return, its cardi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rdinality error can lead optimizer to choose a slow way to run the SQ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plan/Cardin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Id  | Operation         | Name  | Rows  |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  0 | SELECT STATEMENT  |       |    10 |   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*  1 |  TABLE ACCESS FULL| TEST1 |    10 |   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 = how Oracle will run your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ws = how many rows optimizer thinks that step will re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= estimate of time query will take, a function of the number of r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1c1227</cp:lastModifiedBy>
  <dcterms:modified xsi:type="dcterms:W3CDTF">2008-01-18T19:16:03Z</dcterms:modified>
  <cp:revision>332</cp:revision>
  <dc:subject/>
  <dc:title>PowerPoint Presentation</dc:title>
</cp:coreProperties>
</file>