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4C6-F527-4214-B6F2-2D30AE8D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C39-1E51-4262-8D3F-DFC760C0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D35-9801-45A2-8BA1-E6408C92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DBA-CB47-4DC0-9727-4DCE523F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93AD-72AA-442F-B674-6571DD6E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363D-55B3-444A-AAFE-EA95AC5A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0D1D-7691-4A46-88DE-BFBA1B57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632D-0841-487B-9F84-0EAAA430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1B4F-915A-4BB8-9CA1-1E043C6C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3D28-3443-4848-A184-68FA8C0C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63BF-D7F9-40C9-AE98-A8E4AA1A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9586-C964-4F6E-9F60-AAE62910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B781-4DD1-4458-B566-67BC9B29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FC8F-B80C-4793-98AC-085AE3A7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27FE-9CC2-44D8-9462-E28F4F1E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1FB4-F4FA-47C9-BA08-A09C4125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B0E7-929E-4F46-A962-09DFC687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2CA-5495-4109-B1BD-2F6B52D3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BF8-3289-4687-B2F5-B776B081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D90-3175-4512-9071-F61BD89D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E24-820F-47E2-AE7E-C07433FB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75C-CC09-436F-BA27-3748A352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FF9-12CC-4121-B423-7728B6EB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D81-9F6A-4146-996E-4118074A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726F-B9AA-4EDD-9EF9-27B60E92AA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9876-600D-49D9-9854-439B90ACCF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ocities.com/bobbyandmarielle/sqltuning.zip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QL Tuning Scrip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809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bby Durre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 Food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bbyandmarielle@yahoo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geocities.com/bobbyandmarielle/seouc.z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umnstats.s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_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UMN_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_DISTIN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_BU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_NU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G_COL_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_ANALY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_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grams.s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ISTOGR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ABLE_NA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LUMN_NA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DPOINT_NUMB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DPOINT_VALU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POINT_ACTUAL_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geocities.com/bobbyandmarielle/sqltuning.zi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My talk on cardinality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Based Optimizer Fundamentals, Jonathan Lew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link Note:212809.1, Limitations of the Oracle Cost Based Optimiz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link Note:68992.1, Predicate Sel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grams – Myths and Facts,           Wolfgang Breitling,                                               Select Journal, Volume 13, Numb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QL Tuning Scrip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120" y="3809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bby Durre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 Food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bbyandmarielle@yahoo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geocities.com/bobbyandmarielle/seouc.z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ning a slow SQL stat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directory with tuning scri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ture problem SQ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 execution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ry DBA_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select count(*) qu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different pl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execution of improved SQ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these scrip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BA view columns used by optimiz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les in problem SQL on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s current state of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able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eds SQL*Pl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ript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lelist.sql – tables in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lestats.sql – table leve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stats.sql – index leve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columns.sql – columns in inde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umnstats.sql – column leve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grams.sql – histogram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.sql – runs all of the ab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le TEST – 2,000,001 r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umns A, B – NUM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,000,000 rows (1,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,000,000 rows (2,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row (1,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ry where condition A=1, B=2 chooses the one 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lelist.s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to include owner, table_name for each table in problem SQ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have to expand views to get base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also get table names from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lestats.s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LE_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_R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G_ROW_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PLE_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T_ANALY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exstats.s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LE_OW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LE_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X_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_R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PLE_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ING_FA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_ANALY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F_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INCT_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G_LEAF_BLOCKS_PER_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G_DATA_BLOCKS_PER_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excolumns.s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LE_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_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UMN_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UMN_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1c1227</cp:lastModifiedBy>
  <dcterms:modified xsi:type="dcterms:W3CDTF">2009-02-23T21:09:48Z</dcterms:modified>
  <cp:revision>38</cp:revision>
  <dc:subject/>
  <dc:title>PowerPoint Presentation</dc:title>
</cp:coreProperties>
</file>