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C02A-F4D0-49E9-931C-8A3C17D7C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7B05-B5C2-4AD7-BE7D-94EF7503261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3"/>
          <p:cNvSpPr/>
          <p:nvPr/>
        </p:nvSpPr>
        <p:spPr>
          <a:xfrm>
            <a:off x="558720" y="2819520"/>
            <a:ext cx="118872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4520" y="3030480"/>
            <a:ext cx="11055240" cy="20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xadata Distictives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98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950840" y="5527440"/>
            <a:ext cx="9102600" cy="249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obby Durret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S Foo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-1117440" y="838080"/>
          <a:ext cx="13664880" cy="701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117440" y="838080"/>
                    <a:ext cx="13664880" cy="701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-1193760" y="838080"/>
          <a:ext cx="13881240" cy="691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193760" y="838080"/>
                    <a:ext cx="13881240" cy="69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-1270080" y="990720"/>
          <a:ext cx="13938480" cy="674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270080" y="990720"/>
                    <a:ext cx="13938480" cy="67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35040" y="1523880"/>
            <a:ext cx="117028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Observations about the three server types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406440" y="4038480"/>
            <a:ext cx="11734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B server with disks looks like Exadata Cell serv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Index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Compress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memory cach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returns small subset of full dat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B server with SAN looks like full Exadata syste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Storage serv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High speed networ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Database  serv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58360" y="1752480"/>
            <a:ext cx="1170324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More observations about the three server types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482760" y="4191120"/>
            <a:ext cx="11734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B server with SAN differs from full Exadata syste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Full database blocks copied over SAN networ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Results only copied over Exadata networ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Database server caches blocks from SA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Database server does not cache results from cell serv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adata Smart Scan can be turned of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Without Smart Scan Exadata works just like DB server with SA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58360" y="1752480"/>
            <a:ext cx="1170324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How to Use Exadata Smart Scan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482760" y="4114800"/>
            <a:ext cx="11734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Queries with full table scans automatically do Smart Sca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Drop index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Make indexes invisibl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Increase optimizer_index_cost_adj to discourage index us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Use FULL hints to force full sca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58360" y="1752480"/>
            <a:ext cx="1170324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How to avoid Smart Scan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558720" y="3733920"/>
            <a:ext cx="117349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dd indexes and verify that plan uses the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dd INDEX hint to force index us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t CELL_OFFLOAD_PROCESSING to FALS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alter system set CELL_OFFLOAD_PROCESSING=FALSE;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alter session set CELL_OFFLOAD_PROCESSING=FALSE;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hint - OPT_PARAM('cell_offload_processing' 'false')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58360" y="1752480"/>
            <a:ext cx="1170324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Moving an existing application to Exadata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406440" y="4267080"/>
            <a:ext cx="11734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ry these options and see which is faster: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Indexes visible or invisibl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optimizer_index_cost_adj normal (100) or high (&gt; 100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CELL_OFFLOAD_PROCESSING=FALSE or TRU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ll of these options can be tested without changing the applicatio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58360" y="1752480"/>
            <a:ext cx="1170324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rial"/>
              </a:rPr>
              <a:t>Why use Exadata?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558720" y="3733920"/>
            <a:ext cx="11734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New set of performance enhancing featur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ll other Oracle features still availabl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Easy to use new featur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Easy to bypass new featur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58360" y="1752480"/>
            <a:ext cx="1170324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rial"/>
              </a:rPr>
              <a:t>Things to watch out for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"/>
          <p:cNvSpPr/>
          <p:nvPr/>
        </p:nvSpPr>
        <p:spPr>
          <a:xfrm>
            <a:off x="558720" y="3733920"/>
            <a:ext cx="11734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lash memory (storage server cache) slow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Normal RAM – 1000x faster than disk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Cell server cache (Flash) – 10x faster than disk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an’t control, no documentation for storage index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What columns are they on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What column types can they be on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58360" y="1752480"/>
            <a:ext cx="1170324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rial"/>
              </a:rPr>
              <a:t>What is Exadata?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558720" y="3733920"/>
            <a:ext cx="11734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omplete Oracle database serv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Disk storage system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CPU, memory, network hardwa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Operating syste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Database softwa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Fully installed and configur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58360" y="1752480"/>
            <a:ext cx="1170324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Things to watch out for – page 2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406440" y="4267080"/>
            <a:ext cx="11734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atabases tuned for Exadata are not portab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Datafiles with HCC won’t work on non-Exadata syste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Applications that have been tuned to work well on Exadata will be slow on non-Exadat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oor performance of TEMP spa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Like all RAC systems with many nodes moving temp space from node to node kills performance.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Newer X2-8 may address this – 2 node RA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58360" y="1752480"/>
            <a:ext cx="1170324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Things to watch out for – page 3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482760" y="4267080"/>
            <a:ext cx="11734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CC and tables &gt; 255 columns bugg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Wrong results,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Wrong optimizer sta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wness iss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Bugs, hangs, crashes, unexpected resul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Lack of documenta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Lack of trained peop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58360" y="1752480"/>
            <a:ext cx="1170324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"/>
          <p:cNvSpPr/>
          <p:nvPr/>
        </p:nvSpPr>
        <p:spPr>
          <a:xfrm>
            <a:off x="558720" y="3733920"/>
            <a:ext cx="11734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mall number of RAC nodes – 2 if possibl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Use as few new features as possibl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ewer than 256 columns per tabl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et Exadata VM from Oracle for sandbox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Exalogic – can connect to DB via Infiniban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witch our DB links to IB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7840" y="990720"/>
            <a:ext cx="5137200" cy="68500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"/>
          <p:cNvSpPr/>
          <p:nvPr/>
        </p:nvSpPr>
        <p:spPr>
          <a:xfrm>
            <a:off x="5283360" y="1523880"/>
            <a:ext cx="64767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ell Storage server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ntel-based Linux server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ith disk driv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14 cell servers per rac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7 on top, 7 on botto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12 disks per serv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5130720" y="2514600"/>
            <a:ext cx="7467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3 Infiniband network swit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1 on top, 2 on botto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8 Intel Linux database server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4 on bottom, 4 on top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5146560" cy="686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58360" y="1752480"/>
            <a:ext cx="1170324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What is standard about Exadata?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330120" y="4191120"/>
            <a:ext cx="11734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Off the shelf hardwa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Intel x86 processor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Standard Sun disk drives, memor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Infiniband network adapters and swit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Linux operating syste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Oracle 11gR2 database softwa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58360" y="1752480"/>
            <a:ext cx="1170324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What is unique about Exadata?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558720" y="4419720"/>
            <a:ext cx="11734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torage Servers have Oracle database specific featur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Smart Scan – returns only needed dat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Storage Indexes – only accesses needed disk block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Hybrid Columnar Compression – fits data into fewer disk block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8360" y="1752480"/>
            <a:ext cx="1170324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Comparison of three db server types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558720" y="4191120"/>
            <a:ext cx="11734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ompare three types of database servers to demonstrate features unique to Exadat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DB server with directly attached disk driv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DB server attached to a Storage Area Network (SAN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Exadat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With Smart Sca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Without Smart Sca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58360" y="1752480"/>
            <a:ext cx="1170324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Rows, Columns, and Blocks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482760" y="4495680"/>
            <a:ext cx="11734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SQL table is a collection of rows – one row per sa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row is a list of columns – date, product, customer, amount,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table is broken up into equal sized blocks each with a number of rows = block size/row size = 8000 bytes/80 bytes = 100 rows per bloc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sults of queries are a subset of the columns and a subset of the rows of a tab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-812880" y="762120"/>
          <a:ext cx="13414320" cy="722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812880" y="762120"/>
                    <a:ext cx="13414320" cy="72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lison Dixon</dc:creator>
  <dc:description/>
  <dc:language>en-US</dc:language>
  <cp:lastModifiedBy>US Foodservice</cp:lastModifiedBy>
  <dcterms:modified xsi:type="dcterms:W3CDTF">2013-02-15T23:49:22Z</dcterms:modified>
  <cp:revision>94</cp:revision>
  <dc:subject/>
  <dc:title>PowerPoint Presentation</dc:title>
</cp:coreProperties>
</file>