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Click to move the slide</a:t>
            </a:r>
            <a:endParaRPr b="0" lang="en-US" sz="8400" spc="-1" strike="noStrike">
              <a:solidFill>
                <a:srgbClr val="000000"/>
              </a:solidFill>
              <a:latin typeface="Arial"/>
            </a:endParaRPr>
          </a:p>
        </p:txBody>
      </p:sp>
      <p:sp>
        <p:nvSpPr>
          <p:cNvPr id="1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FC11-F3BD-4FEE-9460-54D14B495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the word “Distinctives” to mean things that are different about Exadata from normal Oracle database services.  Really this talk is about the new performance enhancing features of Exadata and how to apply them from a SQL Tuning perspective.  The talk was too short so I stuck some additional details on the end but the main point is the performance improvement features you only find in Exadata.  But maybe if I bulk up the query tuning perspective we won’t need the extra slides at the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hecked.  It looks like we got our V2 in February of 2010 so its been about 3 years.</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B671-B459-48E2-A5E9-465AC7419B5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dicates section of the plan shows which conditions are used to limit rows at each step of the plan.  So, only products rows that are type cheese will be passed up the execution tre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umn projection part of a plan shows which columns are passed up from a given step to the previous one.  In step 3 – the access of the products table – only the product_number and product_name columns are projected.  So, any other columns in the blocks that were read are no longer neede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dded this slide on direct path reads to show that the notion of skipping the buffer cache in the SGA – shared memory – is something that is already in non-Exadata systems.  Full table scans can in some cases bypass the buffer cache.  So, in our products example a scattered read would load each products block in the buffer cache and then select out the needed rows and columns and load a hash table in the PGA – the private memory of a given session’s server process.  Note that a scattered read may find the needed block already in the buffer cache and in that case it doesn’t read from di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ptimizer chooses to have a full scan done with direct path read it will not attempt to find the blocks for the products table in the buffer cache but will instead read every block of the table from disk and then select out the needed rows and columns and use these to load the hash table in the private memory of the server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here is that there are tradeoffs in pulling a block into the buffer cache depending on whether it will flood the cache with blocks that aren’t likely to be accessed again soon.  Also, it is a matter of how likely it would be to find the needed blocks in memory versus skipping the memory check and associated overhead and going directly to disk.</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ally where I started with this presentation.  I’m not sure I would take this approach again.  The other presentations I’ve done I wrote up a paper first so then I know what I wanted to say.  This time I made up the four diagrams which will follow and then tried to figure out how to build a talk around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e done this talk a couple of times now and I see some of its limitations.  But the key thing I learned about Exadata is what I’m trying to get across namely the different types of caching (flash cache for storage servers) for Exadata versus non-Exadata and the weird path data goes through.</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about as normal as you can get.  My first two production database servers were like this.  The second one was rack mounted and had a bunch of disk drives plugged into six SCSI controllers in a server running Windows.  The disks were mirrored by the disk controllers but striped by the O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key thing here is how the data flows from those disks to the user.  I say user here but really it would be the server process associated with the user’s connection to the databases.  I’m assuming dedicated server processes here.  Your server process does the real work of running the query such as parsing it and requesting information from the disks.  On Unix implementations the block buffer cache is in a chunk of shared memory that the various server processes can access with appropriate controls to prevent shared data from being corrupted by concurrent access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 really what happens here is that the server process requests a block of disk storage be pulled into the buffer cache and this it looks at that block to figure out which rows meet the where clause conditions and it pulls out the columns that are needed for the result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want to think of this in terms of query tuning really these diagrams are of the access methods for a single tab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ere is the URL to my paper on SQL tuning which talks about access method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bobbydurrettdba.com/uploads/Introtosqltuning.pd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ally I wanted to do this talk at Collaborate 13 but as I think about this Exadata talk I realize that the query tuning principles in my other talk relate back to this on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query plan at the database server level boils down to joins and access methods.  Really these diagrams are of access to a single table (or one of its indexes).  The results of each access are joined together if the query includes more than one table.  The joins occur at the server process level.  You can see this kind of flow in the query plan outpu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LAN_TABLE_OUTPU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QL_ID  f564wush4xkgm, child number 0</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elect sale_date, product_name, customer_name, amount from sal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roducts, customers where sales.product_number=products.product_numb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nd sales.customer_number=customers.customer_number and sale_dat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between   to_date('01/01/2012','MM/DD/YYYY') an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o_date('01/31/2012','MM/DD/YYYY') and product_type = 'Cheese' an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ustomer_state = 'F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lan hash value: 1088602314</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Id  | Operation           | Name      | Rows  | Bytes | Cost (%CPU)| Tim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0 | SELECT STATEMENT    |           |       |       |    16 (100)|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1 |  HASH JOIN          |           |     4 |   232 |    16   (7)|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2 |   HASH JOIN         |           |     4 |   136 |    11  (1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3 |    TABLE ACCESS FULL| PRODUCTS  |     2 |    34 |     5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4 |    TABLE ACCESS FULL| SALES     |     4 |    68 |     5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5 |   TABLE ACCESS FULL | CUSTOMERS |     2 |    48 |     5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Query Block Name / Object Alias (identified by operation i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1 - SEL$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3 - SEL$1 / PRODUCTS@SEL$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4 - SEL$1 / SALES@SEL$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5 - SEL$1 / CUSTOMERS@SEL$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redicate Information (identified by operation i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1 - access("SALES"."CUSTOMER_NUMBER"="CUSTOMERS"."CUSTOMER_NUMB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2 - access("SALES"."PRODUCT_NUMBER"="PRODUCTS"."PRODUCT_NUMB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3 - filter("PRODUCT_TYPE"='Chees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4 - filter(("SALE_DATE"&gt;=TO_DATE(' 2012-01-01 00:00:00', 'syyyy-mm-d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hh24:mi:ss') AND "SALE_DATE"&lt;=TO_DATE(' 2012-01-31 00:00:00',</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yyy-mm-dd hh24:mi: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5 - filter("CUSTOMER_STATE"='F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olumn Projection Information (identified by operation i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1 - (#keys=1) "PRODUCT_NAME"[VARCHAR2,12], "SALE_DATE"[DATE,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MOUNT"[NUMBER,22], "CUSTOMER_NAME"[VARCHAR2,1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2 - (#keys=1) "PRODUCT_NAME"[VARCHAR2,12], "SALE_DATE"[DATE,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MOUNT"[NUMBER,22], "SALES"."CUSTOMER_NUMBER"[NUMBER,22]</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3 - "PRODUCTS"."PRODUCT_NUMBER"[NUMBER,22],</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ODUCT_NAME"[VARCHAR2,12]</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4 - "SALE_DATE"[DATE,7], "SALES"."PRODUCT_NUMBER"[NUMBER,22],</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ALES"."CUSTOMER_NUMBER"[NUMBER,22], "AMOUNT"[NUMBER,22]</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5 - "CUSTOMERS"."CUSTOMER_NUMBER"[NUMBER,22],</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USTOMER_NAME"[VARCHAR2,1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Each step of the plan has its own predicates and projected columns that flow up through the plan.  After the table accesses at the leaf level of the plan only the rows that meet the predicate conditions and the projected (needed) columns flow up to the higher nodes of the pla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o, my four diagrams are really four ways that data are accessed at the bottom level of the plan.  Note that there may be some actual joining done in smart scans but I don’t address it in this talk and really I don’t know much about it except that it is supposed to be possib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simplifies things I realize.  I’m trying to compare the Infiniband networking on Exadata (low latency, high bandwidth) to that of a SAN.  Of course the storage server for a SAN can be very complex on the inside with all kinds of slick hardware and software, but it still serves up full blocks back to the database server.  But, it is like the Exadata storage server in the sense that it has its own CPU, memory and is connected via network hardware to the db server.  A key point I’ll make later is that the SAN I’m working with uses high speed memory whereas Exadata uses Flash which is slow and cheap (but plenti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not shown are the various other places blocks are cached including at the disk drive itself and at the OS level if you have a filesystem ca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missing in the two non-Exadata pictures are direct path reads.  In certain circumstances Oracle will bypass the block buffer cache and read data directly into the server process’s memory (PGA).  But even then we are talking about reading full blocks from the disk or SAN.  But all of the unneeded rows and columns are disgarded and the results are treated much like those from a Smart Scan.  I.e. you’ve pulled in the projected columns from rows that meet the where clause predicates and then you used them for other parts of the plan as data flows up the execution tre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 finally we get to the picture of a Smart Scan which is really what this talk is all about.  What is different about the smart scan?  Really this picture is the path from one cell server back to the server process.  So, you can have all 14 firing at the same time if you have a full V2 rack.  The column projection and application of the predicates – for this one table – is done at the cell level for the blocks that are on that server for the given table.  So, only the parts of the table that are needed for the other parts of the plan are passed from the cell server back to the database server.  Note that this is just like direct path reads in the sense that the buffer cache isn’t used.  Interestingly on normal db servers the database chooses to bypass the buffer cache because the data doesn’t seem needed for caching whereas in the case of smart scans the blocks could be ones that could be efficiently cached.  But there is a cache at the storage level, the flash cache, slow and big.  So, you are moving your cache back to the storage level.  Similarly you can’t use database level indexes so you are trading off db indexes for storage index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 the question is whether this is really faster than just doing things the normal way.  It isn’t hard to build a test where you use an index scan to return one row from a large table using normal database processing and it is faster than a smart scan.  But, I’ve seen cases where dropping indexes or making them invisible have made queries much faster – like ten times faster – with very little work.  I haven’t proven it out but I imagine it depends on the size of your table and the number of columns in your row versus those returned.  Most likely there are tradeoffs where a smart scan is faster than a normal index scan and vice versa.  The Exadata smart scan is nice and automatic so as we will see later it is pretty easy to use.  The cool thing as we see on our next slide is that on Exadata you have the old path as well as the new.  So, you can look at the smart scan as a new way to move data through your system and you can use it when it works and bypass it when it does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e got these errors on one of our storage serv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12-03-02T10:36:48.834-06:00] [ossmgmt] [NOTIFICATION]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s.core.MSAlertHistory] [tid: 14] [ecid: 10.34.96.29:66273:1326007663025:6,0]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lertHistory 25 created. Severity: critical.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essage: ORA-07445: exception encountered: core dump [kdzt_acmp_setup()+1224] [11] [0x000000000] []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12-03-02T10:36:48.847-06:00] [ossmgmt] [NOTIFICATION]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s.core.MSAlertHistory] [tid: 14] [ecid: 10.34.96.29:66273:1326007663025:6,0]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lertHistory 26_1 created. Severity: critical. Message: A SQL PLAN quarantine has been added.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a result, Smart Scan is disabled for SQL statements with the quarantined SQL pla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Quarantine id     : 1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Quarantine type   : SQL PLA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Quarantine reason : Crash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QLID             : 6yqsxrrv6mr7v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QL Plan details  : {SQL_PLAN_HASH_VALUE=976450685, PLAN_LINE_ID=30}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addition, the following disk region has been quarantined, and Smart Scan will be disabled for this regio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isk Region : {Grid Disk Name=DATA_CD_00_ex01cel02, offset=53324283904, size=1M}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error helped me understand how smart scans work.  For a given sql_id, plan_hash_value, and line number within that plan you have a smart sca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matches well with the notion that a smart scan is one of the access methods in a leaf of an execution plan.  In this case if a particular scan hits an internal cell server bug and kills the process with an ORA-07445 then that particular sql_id, plan, and plan_line_id number can’t use smart scans on this particular cell server.</a:t>
            </a:r>
            <a:endParaRPr b="0" lang="en-US" sz="9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slide – this is back to normal san-like processing.  Full blocks are pulled back to the db server from each cell server.  You still have the fast Infiniband network and 14 cell servers dividing up the I/O along with a large number of high speed dedicated disks so this normal path isn’t bad on the nice hardwar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kind of redundant – trying to compare the four cases.  Storage servers are like database servers with their own disks.  The SAN configuration is like Exadata with non-smart scan.  I used compression, indexes, and cache as the main ways performance of the data access was improved and show how these three exist at the db server level and at the storage server level.</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versus results stuff I mentioned in the earlier notes.  Doesn’t talk here about 14 cell servers over Infiniband versus blocks copied over the San (probably with at least two pa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 V2 which is the first version of Exadata running on Sun hardware.  My understanding is that V1 ran on HP hardware and didn’t have flash memory.  Also, even though we aren’t on the latest versions of the hardware I’m pretty sure we can upgrade our firmware/os/cell storage software/and database software so that our V2 is running the same software as the most current X version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really just query tuning.  You have a query running on Exadata and you want it to go faster.  How do you tune it?  Really it is just about making the table do a full table scan instead of in index sca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egular pla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Id  | Operation           | Name      | Rows  | Bytes | Cost (%CPU)| Tim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0 | SELECT STATEMENT    |           |       |       |    16 (100)|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1 |  HASH JOIN          |           |     4 |   232 |    16   (7)|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2 |   HASH JOIN         |           |     4 |   136 |    11  (1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3 |    TABLE ACCESS FULL| PRODUCTS  |     2 |    34 |     5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4 |    TABLE ACCESS FULL| SALES     |     4 |    68 |     5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5 |   TABLE ACCESS FULL | CUSTOMERS |     2 |    48 |     5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With smart sca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Id  | Operation                   | Name      | Rows  | Bytes | Cost (%CPU)| Tim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0 | SELECT STATEMENT            |           |       |       |    10 (100)|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1 |  HASH JOIN                  |           |     4 |   232 |    10  (1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2 |   HASH JOIN                 |           |     4 |   136 |     7  (15)|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3 |    TABLE ACCESS STORAGE FULL| PRODUCTS  |     2 |    34 |     3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4 |    TABLE ACCESS STORAGE FULL| SALES     |     4 |    68 |     3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5 |   TABLE ACCESS STORAGE FULL | CUSTOMERS |     2 |    48 |     3   (0)| 00:00:01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But the point is if you know how to get your query to do a full scan on a normal db server you just use the same process on Exadata and you get a big boost because what would have been a simple scan of every block in the table becomes a smart scan that takes advantage of storage indexes and only sends the needed columns and rows back to the db server process.  I did an implementation of Oracle Business Intelligence Analytics and I was very please with how easy it was to tune the queries by simply getting rid of the indexes (or discouraging their use with the parameter).  It was at that point that I started to see the value of Exadata.  I had a new tool in my query tuning toolkit!  I already new how to make queries run with or without indexes on a normal database, now I just applied that background to take advantage of smart scans.  Piece of cak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YI.  The “Access Methods” section of my SQL Tuning paper -</a:t>
            </a:r>
            <a:r>
              <a:rPr b="0" lang="en-US" sz="800" spc="-1" strike="noStrike">
                <a:solidFill>
                  <a:srgbClr val="000000"/>
                </a:solidFill>
                <a:latin typeface="Calibri"/>
              </a:rPr>
              <a:t>http://www.bobbydurrettdba.com/uploads/Introtosqltuning.pdf – talk about how to get full scans or index sca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_OFFLOAD_PROCESSING is a key parameter.  It lets you turn off smart scans even if you are doing a full scan.  It can be set in a hint, at the session level or system wide.  The down side to the parameter is that it turns off all smart scans so even if you use it as a hint it will prevent any of the tables from doing smart scans.  Setting the parameter system wide would turn Exadata into a regular Oracle datab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 caveats here apply.  I was doing some testing to prove out some things I put in the slides.  I think I had already done this in the past but forgot so I redid it.  One thing that is funky is that setting CELL_OFFLOAD_PROCESSING=false at the session level doesn’t seem to always turn off the smart scans.  I had to make the alter session command the first thing in my sqlplus script to get it to tak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linesize 3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pagesize 1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echo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termout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trimspool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ol withoutsmartscan.lo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 session set cell_offload_processing =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sum(BLOCKS) from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on the flip side it seems that if a table is cached in the databases block buffer cache that the optimizer may not do a smart sc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found all of this it appears that the usage of </a:t>
            </a:r>
            <a:r>
              <a:rPr b="0" lang="en-US" sz="1200" spc="-1" strike="noStrike">
                <a:solidFill>
                  <a:srgbClr val="000000"/>
                </a:solidFill>
                <a:latin typeface="Calibri"/>
              </a:rPr>
              <a:t>dbms_xplan.display_cursor to show the plan may report that you are using a smart scan (STORAGE FULL) even though you don’t use it…</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that motivated the talk was that I did exactly what is mentioned on this slide.  I supported the initial rollout of an OBIA (Oracle Business Intelligence Analytics) application on Exadata.  I was able to pretty easily tune this canned PeopleSoft Financials datawarehouse using the steps described.  We made some indexes invisible.  I bumped optimizer_index_cost_adj up to 1000.  I didn’t really do anything with the parameter cell_offload_processing.  This was the first time I started to see the value in Exadata because it didn’t take much work to make a significant improvement.</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data gives you a new tool in your query performance tuning toolkit.  You can influence queries to use full table scans and then let the smart scans take over.  Also, I didn’t cover this in the talk but Hybrid Columnar Compression – HCC – has much higher compression ratios than normal Oracle compression.  But, the regular indexed scans will use normal Oracle processing.  Interestingly I have seen cases where full table scans bypass smart scans when the table’s blocks are cached so you aren’t guaranteed that Exadata will use smart scans for every full scan in your plan.</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ave a variety of papers and presentations on my “resources” page and the blog entries are searchable by topic.  You can also email me if you have questions, comments, or cav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Exadata related blog p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3/03/20/flash-cache-used-when-smart-scans-are-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3/03/13/new-version-of-my-exadata-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3/02/18/collaborate-13-paper-pos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3/01/08/clusterno-to-speed-exadata-datapump-to-a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12/28/datapump-to-reco-asm-diskgroup-on-exa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11/30/dbms_stats-queries-invisible-inde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11/16/script-to-collect-truncate-exadata-state-du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11/13/oradebug-g-all-dumps-to-diag-process-trace-f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10/19/compression-preserved-on-inserts-with-append-h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10/14/now-im-doing-two-talks-at-eco-con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08/10/awrgrpt-sql-awr-report-for-rac-and-exa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08/07/eco-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05/22/2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04/24/exadata-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nteresting that this post on April 24, 2012 was about the first time I did this Exadata presentation about a year before this year’s IOUG conference.  You can look at this post to see how the presentation changed from the origi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bbydurrettdba.com/2012/03/09/cell-single-block-physical-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here is that Exadata is pretty much just a rack of Sun servers running Linux.  The Infiniband switches can also be purchased separately but they are kind of exotic.  Still, you could put together a RAC cluster using the same Sun servers as database servers and the Infiniband switches for your private network.  You would probably use something else for disk like SAN storag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ook pictures of one of our racks using my cell phone.  I thought it was cool that you could see the green lights which tells you a lot about what is running on each part of the rack.  The big green lights I think are power (I’m not really the hardware guy.  I had to sneak into the computer room to take the picture actually.)</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e smaller green lights are power for the disk drives so you can see the cell servers have a bunch of drives per unit and the database servers just have fou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thing about Exadata is that it has these Linux servers with a bunch of disk drives on each one that make up the storage subsystem.  Note that the Infiniband network is used both for the RAC private interconnect and for the disk I/O so that is different from a normal RAC system where the storage probably is connected through a fiber network whereas the private interconnect could use Infiniban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rdware overview is important if you want to talk about SQL Tuning with Exadata because the smart scans are really communications of partial queries from the database servers to each of the cell servers.  The cell servers actually look at the query itself so really they are little database server like machines on their own but not fully functional.  It is kind of weird because in a single rack you have these 14 servers serving up the disk blocks whereas in a normal db server you would have one SAN (probably) with multiple redundant paths back to it.  In Exadata you have 14 storage servers in a rack with the redundant paths.  There are multiple switches for example for reduncanc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of redundancy, this slide is kind of redundant except that it points out that the Linux and database software are standard as well as the hard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thing stopping you from using Exadata like a normal Oracle database except that you won’t get the full advantage of the money you paid for it unless you tweak your applications to use the Exadata featur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ready said this in the earlier notes but the heart of the Exadata differences is the storage server software.  You can just use the storage servers like normal disk storage like I said, but you can use Exadata specific features to improve performance in ways you can’t on a normal system.  The smart scans are the database management system type functions at the storage layer.  The database servers send something to the cell servers that is like a partial query with where clause conditions and needed columns for one table.  Then the cell server finds only the rows that match the conditions and the columns requested and returns just these, not all the blocks that contain them.  This has profound consequences for query tuning because the returned values can’t be cached in the block ca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age indexes help eliminate rows that are needed and HCC fits more data into blocks than normal compression.  These are cool features but really the smart scan is the heart of the difference between exadata and normal db servers.  Still, I’m not sure smart scans would be very efficient without storage indexes since you have to eliminate index scans at the database server level to do a smart sca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idn’t have a good example slide of a database block and how it fills with rows and columns but the row, column, and block definition is the key to understanding smart scans.  Normal i/o systems send entire blocks back to the database server but smart scans just return the selected rows and columns.  Even without storage indexes at least you scan the blocks once at the storage level and then only return the needed columns and rows.  But, as you will see, this happens at the cost of caching at the db server leve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dded this slide and the next three from my SQL tuning presentation because I thought it would help fill out the idea of where the unneeded rows and columns get eliminated.  I guess in SQL terms the needed rows are “selected” and the needed columns “projected” out of the table.  The three scans – product, sales, and customer are Exadata Smart Scans which do the selection and projection at the cell server level which I talk about later.  But, imagine a normal database’s plan.  Those steps would still be where the selection and production occur.  Then the needed rows and columns are passed up the execution tree to the join nodes.  So, the entire blocks are no longer needed, just the rows and columns requeste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ly I talked about this on the first slide.  What really happens here is that the needed rows and columns for products are pulled into a hash table in the server process’s PGA and then the rows and columns from sales probe the hash table and the results of that join fill another hash table which is then probed by rows from the customers tabl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22"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25"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30"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39"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marL="266760" indent="0" algn="ctr">
              <a:spcBef>
                <a:spcPts val="4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41"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43"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266760" algn="ctr">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48"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1"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marL="266760" indent="0" algn="ctr">
              <a:spcBef>
                <a:spcPts val="4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52"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56"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60"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63"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5"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68"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9"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3"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76"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marL="266760" indent="0" algn="ctr">
              <a:spcBef>
                <a:spcPts val="4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78"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80"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1"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3"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266760" algn="ctr">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85"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6"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7"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89"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0"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1"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93"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4"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5"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97"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100"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1"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2"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3"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105"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6"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8"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0"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5"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266760" algn="ctr">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10"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14"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18"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outline text format</a:t>
            </a:r>
            <a:endParaRPr b="0" lang="en-US" sz="4200" spc="-1" strike="noStrike">
              <a:solidFill>
                <a:srgbClr val="000000"/>
              </a:solidFill>
              <a:latin typeface="Arial"/>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cond Outline Level</a:t>
            </a:r>
            <a:endParaRPr b="0" lang="en-US" sz="4200" spc="-1" strike="noStrike">
              <a:solidFill>
                <a:srgbClr val="000000"/>
              </a:solidFill>
              <a:latin typeface="Arial"/>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ird Outline Level</a:t>
            </a:r>
            <a:endParaRPr b="0" lang="en-US" sz="4200" spc="-1" strike="noStrike">
              <a:solidFill>
                <a:srgbClr val="000000"/>
              </a:solidFill>
              <a:latin typeface="Arial"/>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ourth Outline Level</a:t>
            </a:r>
            <a:endParaRPr b="0" lang="en-US" sz="4200" spc="-1" strike="noStrike">
              <a:solidFill>
                <a:srgbClr val="000000"/>
              </a:solidFill>
              <a:latin typeface="Arial"/>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fth Outline Level</a:t>
            </a:r>
            <a:endParaRPr b="0" lang="en-US" sz="4200" spc="-1" strike="noStrike">
              <a:solidFill>
                <a:srgbClr val="000000"/>
              </a:solidFill>
              <a:latin typeface="Arial"/>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ixth Outline Level</a:t>
            </a:r>
            <a:endParaRPr b="0" lang="en-US" sz="4200" spc="-1" strike="noStrike">
              <a:solidFill>
                <a:srgbClr val="000000"/>
              </a:solidFill>
              <a:latin typeface="Arial"/>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venth Outline Level</a:t>
            </a:r>
            <a:endParaRPr b="0" lang="en-US" sz="4200" spc="-1" strike="noStrike">
              <a:solidFill>
                <a:srgbClr val="000000"/>
              </a:solidFill>
              <a:latin typeface="Arial"/>
            </a:endParaRPr>
          </a:p>
        </p:txBody>
      </p:sp>
      <p:sp>
        <p:nvSpPr>
          <p:cNvPr id="37"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Click to edit the title text format</a:t>
            </a:r>
            <a:endParaRPr b="0" lang="en-US" sz="8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TextBox 3"/>
          <p:cNvSpPr/>
          <p:nvPr/>
        </p:nvSpPr>
        <p:spPr>
          <a:xfrm>
            <a:off x="558720" y="2819520"/>
            <a:ext cx="11887200" cy="73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4520" y="3030480"/>
            <a:ext cx="11055240" cy="209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Exadata Distinctives</a:t>
            </a:r>
            <a:br>
              <a:rPr sz="7200"/>
            </a:br>
            <a:r>
              <a:rPr b="0" lang="en-US" sz="7200" spc="-1" strike="noStrike">
                <a:solidFill>
                  <a:srgbClr val="000000"/>
                </a:solidFill>
                <a:latin typeface="Arial"/>
              </a:rPr>
              <a:t>988</a:t>
            </a:r>
            <a:endParaRPr b="0" lang="en-US" sz="7200" spc="-1" strike="noStrike">
              <a:solidFill>
                <a:srgbClr val="000000"/>
              </a:solidFill>
              <a:latin typeface="Arial"/>
            </a:endParaRPr>
          </a:p>
        </p:txBody>
      </p:sp>
      <p:sp>
        <p:nvSpPr>
          <p:cNvPr id="119" name="PlaceHolder 2"/>
          <p:cNvSpPr>
            <a:spLocks noGrp="1"/>
          </p:cNvSpPr>
          <p:nvPr>
            <p:ph type="subTitle"/>
          </p:nvPr>
        </p:nvSpPr>
        <p:spPr>
          <a:xfrm>
            <a:off x="1950840" y="5527440"/>
            <a:ext cx="9102600" cy="2492280"/>
          </a:xfrm>
          <a:prstGeom prst="rect">
            <a:avLst/>
          </a:prstGeom>
          <a:noFill/>
          <a:ln w="0">
            <a:noFill/>
          </a:ln>
        </p:spPr>
        <p:txBody>
          <a:bodyPr lIns="50760" rIns="50760" tIns="50760" bIns="50760" anchor="ctr">
            <a:noAutofit/>
          </a:bodyPr>
          <a:p>
            <a:pPr indent="0" algn="ctr">
              <a:spcBef>
                <a:spcPts val="4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obby Durrett</a:t>
            </a:r>
            <a:endParaRPr b="0" lang="en-US" sz="4200" spc="-1" strike="noStrike">
              <a:solidFill>
                <a:srgbClr val="000000"/>
              </a:solidFill>
              <a:latin typeface="Arial"/>
            </a:endParaRPr>
          </a:p>
          <a:p>
            <a:pPr indent="0" algn="ctr">
              <a:spcBef>
                <a:spcPts val="4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Foods</a:t>
            </a:r>
            <a:endParaRPr b="0" lang="en-US" sz="4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Predicates</a:t>
            </a:r>
            <a:endParaRPr b="0" lang="en-US" sz="8400" spc="-1" strike="noStrike">
              <a:solidFill>
                <a:srgbClr val="000000"/>
              </a:solidFill>
              <a:latin typeface="Arial"/>
            </a:endParaRPr>
          </a:p>
        </p:txBody>
      </p:sp>
      <p:sp>
        <p:nvSpPr>
          <p:cNvPr id="137" name=""/>
          <p:cNvSpPr/>
          <p:nvPr/>
        </p:nvSpPr>
        <p:spPr>
          <a:xfrm>
            <a:off x="-26280" y="2133720"/>
            <a:ext cx="1225080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edicate Information (identified by operation i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 access("SALES"."CUSTOMER_NUMBER"="CUSTOMERS"."CUSTOMER_NUMBER")</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 access("SALES"."PRODUCT_NUMBER"="PRODUCTS"."PRODUCT_NUMBER")</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 storage("PRODUCT_TYPE"='Chees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ilter("PRODUCT_TYPE"='Chees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 storage(("SALE_DATE"&gt;=TO_DATE(' 2012-01-01 00:00:00', 'syyyy-mm-d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h24:mi:ss') AND "SALE_DATE"&lt;=TO_DATE(' 2012-01-31 00:00:00', 'syyyy-mm-d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h24:mi:s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ilter(("SALE_DATE"&gt;=TO_DATE(' 2012-01-01 00:00:00', 'syyyy-mm-d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h24:mi:ss') AND "SALE_DATE"&lt;=TO_DATE(' 2012-01-31 00:00:00', 'syyyy-mm-d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h24:mi:s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 storage("CUSTOMER_STATE"='FL')</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ilter("CUSTOMER_STATE"='FL')</a:t>
            </a:r>
            <a:endParaRPr b="0" lang="en-US" sz="1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Columns</a:t>
            </a:r>
            <a:endParaRPr b="0" lang="en-US" sz="8400" spc="-1" strike="noStrike">
              <a:solidFill>
                <a:srgbClr val="000000"/>
              </a:solidFill>
              <a:latin typeface="Arial"/>
            </a:endParaRPr>
          </a:p>
        </p:txBody>
      </p:sp>
      <p:sp>
        <p:nvSpPr>
          <p:cNvPr id="139" name=""/>
          <p:cNvSpPr/>
          <p:nvPr/>
        </p:nvSpPr>
        <p:spPr>
          <a:xfrm>
            <a:off x="-22680" y="2666880"/>
            <a:ext cx="1074204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Projection Information (identified by operation i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 (#keys=1) "PRODUCT_NAME"[VARCHAR2,12], "SALE_DATE"[DATE,7],</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OUNT"[NUMBER,22], "CUSTOMER_NAME"[VARCHAR2,17]</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 (#keys=1) "PRODUCT_NAME"[VARCHAR2,12], "SALE_DATE"[DATE,7],</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OUNT"[NUMBER,22], "SALES"."CUSTOMER_NUMBER"[NUMBER,22]</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 "PRODUCTS"."PRODUCT_NUMBER"[NUMBER,22], "PRODUCT_NAME"[VARCHAR2,12]</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 "SALE_DATE"[DATE,7], "SALES"."PRODUCT_NUMBER"[NUMBER,22],</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ES"."CUSTOMER_NUMBER"[NUMBER,22], "AMOUNT"[NUMBER,22]</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 "CUSTOMERS"."CUSTOMER_NUMBER"[NUMBER,22], "CUSTOMER_NAME"[VARCHAR2,17]</a:t>
            </a:r>
            <a:endParaRPr b="0" lang="en-US" sz="18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Direct Path</a:t>
            </a:r>
            <a:endParaRPr b="0" lang="en-US" sz="8400" spc="-1" strike="noStrike">
              <a:solidFill>
                <a:srgbClr val="000000"/>
              </a:solidFill>
              <a:latin typeface="Arial"/>
            </a:endParaRPr>
          </a:p>
        </p:txBody>
      </p:sp>
      <p:graphicFrame>
        <p:nvGraphicFramePr>
          <p:cNvPr id="141" name="Rectangle 1"/>
          <p:cNvGraphicFramePr/>
          <p:nvPr/>
        </p:nvGraphicFramePr>
        <p:xfrm>
          <a:off x="0" y="2209680"/>
          <a:ext cx="13004640" cy="4876920"/>
        </p:xfrm>
        <a:graphic>
          <a:graphicData uri="http://schemas.openxmlformats.org/presentationml/2006/ole">
            <p:oleObj r:id="rId2" spid="">
              <p:embed/>
              <p:pic>
                <p:nvPicPr>
                  <p:cNvPr id="142" name="Rectangle 1" descr=""/>
                  <p:cNvPicPr/>
                  <p:nvPr/>
                </p:nvPicPr>
                <p:blipFill>
                  <a:blip r:embed="rId3"/>
                  <a:stretch/>
                </p:blipFill>
                <p:spPr>
                  <a:xfrm>
                    <a:off x="0" y="2209680"/>
                    <a:ext cx="13004640" cy="48769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Comparison of three db server types</a:t>
            </a:r>
            <a:endParaRPr b="0" lang="en-US" sz="7600" spc="-1" strike="noStrike">
              <a:solidFill>
                <a:srgbClr val="000000"/>
              </a:solidFill>
              <a:latin typeface="Arial"/>
            </a:endParaRPr>
          </a:p>
        </p:txBody>
      </p:sp>
      <p:sp>
        <p:nvSpPr>
          <p:cNvPr id="144" name="TextBox 1"/>
          <p:cNvSpPr/>
          <p:nvPr/>
        </p:nvSpPr>
        <p:spPr>
          <a:xfrm>
            <a:off x="558720" y="4191120"/>
            <a:ext cx="11734920" cy="503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ompare three types of database servers to  demonstrate features unique to Exadata</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DB server with directly attached disk drives</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DB server attached to a Storage Area Network (SAN)</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Exadata</a:t>
            </a:r>
            <a:endParaRPr b="0" lang="en-US" sz="36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With Smart Scan</a:t>
            </a:r>
            <a:endParaRPr b="0" lang="en-US" sz="36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Without Smart Scan</a:t>
            </a:r>
            <a:endParaRPr b="0" lang="en-US" sz="36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5" name=""/>
          <p:cNvGraphicFramePr/>
          <p:nvPr/>
        </p:nvGraphicFramePr>
        <p:xfrm>
          <a:off x="-812880" y="762120"/>
          <a:ext cx="13414320" cy="7221240"/>
        </p:xfrm>
        <a:graphic>
          <a:graphicData uri="http://schemas.openxmlformats.org/presentationml/2006/ole">
            <p:oleObj r:id="rId2" spid="">
              <p:embed/>
              <p:pic>
                <p:nvPicPr>
                  <p:cNvPr id="146" name="" descr=""/>
                  <p:cNvPicPr/>
                  <p:nvPr/>
                </p:nvPicPr>
                <p:blipFill>
                  <a:blip r:embed="rId3"/>
                  <a:stretch/>
                </p:blipFill>
                <p:spPr>
                  <a:xfrm>
                    <a:off x="-812880" y="762120"/>
                    <a:ext cx="13414320" cy="722124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7" name=""/>
          <p:cNvGraphicFramePr/>
          <p:nvPr/>
        </p:nvGraphicFramePr>
        <p:xfrm>
          <a:off x="-1117440" y="838080"/>
          <a:ext cx="13664880" cy="7016760"/>
        </p:xfrm>
        <a:graphic>
          <a:graphicData uri="http://schemas.openxmlformats.org/presentationml/2006/ole">
            <p:oleObj r:id="rId2" spid="">
              <p:embed/>
              <p:pic>
                <p:nvPicPr>
                  <p:cNvPr id="148" name="" descr=""/>
                  <p:cNvPicPr/>
                  <p:nvPr/>
                </p:nvPicPr>
                <p:blipFill>
                  <a:blip r:embed="rId3"/>
                  <a:stretch/>
                </p:blipFill>
                <p:spPr>
                  <a:xfrm>
                    <a:off x="-1117440" y="838080"/>
                    <a:ext cx="13664880" cy="70167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9" name=""/>
          <p:cNvGraphicFramePr/>
          <p:nvPr/>
        </p:nvGraphicFramePr>
        <p:xfrm>
          <a:off x="-1193760" y="838080"/>
          <a:ext cx="13881240" cy="6919920"/>
        </p:xfrm>
        <a:graphic>
          <a:graphicData uri="http://schemas.openxmlformats.org/presentationml/2006/ole">
            <p:oleObj r:id="rId2" spid="">
              <p:embed/>
              <p:pic>
                <p:nvPicPr>
                  <p:cNvPr id="150" name="" descr=""/>
                  <p:cNvPicPr/>
                  <p:nvPr/>
                </p:nvPicPr>
                <p:blipFill>
                  <a:blip r:embed="rId3"/>
                  <a:stretch/>
                </p:blipFill>
                <p:spPr>
                  <a:xfrm>
                    <a:off x="-1193760" y="838080"/>
                    <a:ext cx="13881240" cy="69199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1" name=""/>
          <p:cNvGraphicFramePr/>
          <p:nvPr/>
        </p:nvGraphicFramePr>
        <p:xfrm>
          <a:off x="-1270080" y="990720"/>
          <a:ext cx="13938480" cy="6743520"/>
        </p:xfrm>
        <a:graphic>
          <a:graphicData uri="http://schemas.openxmlformats.org/presentationml/2006/ole">
            <p:oleObj r:id="rId2" spid="">
              <p:embed/>
              <p:pic>
                <p:nvPicPr>
                  <p:cNvPr id="152" name="" descr=""/>
                  <p:cNvPicPr/>
                  <p:nvPr/>
                </p:nvPicPr>
                <p:blipFill>
                  <a:blip r:embed="rId3"/>
                  <a:stretch/>
                </p:blipFill>
                <p:spPr>
                  <a:xfrm>
                    <a:off x="-1270080" y="990720"/>
                    <a:ext cx="13938480" cy="674352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1523880"/>
            <a:ext cx="1170288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Observations about the three server types</a:t>
            </a:r>
            <a:endParaRPr b="0" lang="en-US" sz="7600" spc="-1" strike="noStrike">
              <a:solidFill>
                <a:srgbClr val="000000"/>
              </a:solidFill>
              <a:latin typeface="Arial"/>
            </a:endParaRPr>
          </a:p>
        </p:txBody>
      </p:sp>
      <p:sp>
        <p:nvSpPr>
          <p:cNvPr id="154" name="TextBox 1"/>
          <p:cNvSpPr/>
          <p:nvPr/>
        </p:nvSpPr>
        <p:spPr>
          <a:xfrm>
            <a:off x="406440" y="4038480"/>
            <a:ext cx="11734920" cy="4968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B server with disks looks like Exadata Cell server</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Indexes</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Compression</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memory cache</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returns small subset of full data</a:t>
            </a:r>
            <a:endParaRPr b="0" lang="en-US" sz="3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B server with SAN looks like full Exadata system</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Storage server</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High speed network</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Database  servers</a:t>
            </a:r>
            <a:endParaRPr b="0" lang="en-US" sz="3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More observations about the three server types</a:t>
            </a:r>
            <a:endParaRPr b="0" lang="en-US" sz="7600" spc="-1" strike="noStrike">
              <a:solidFill>
                <a:srgbClr val="000000"/>
              </a:solidFill>
              <a:latin typeface="Arial"/>
            </a:endParaRPr>
          </a:p>
        </p:txBody>
      </p:sp>
      <p:sp>
        <p:nvSpPr>
          <p:cNvPr id="156" name="TextBox 1"/>
          <p:cNvSpPr/>
          <p:nvPr/>
        </p:nvSpPr>
        <p:spPr>
          <a:xfrm>
            <a:off x="482760" y="4191120"/>
            <a:ext cx="1173456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B server with SAN differs from full Exadata system</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Full database blocks copied over SAN network</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Results only copied over Exadata network</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Database server caches blocks from SAN</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Database server does not cache results from cell server</a:t>
            </a:r>
            <a:endParaRPr b="0" lang="en-US" sz="3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adata Smart Scan can be turned off</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Without Smart Scan Exadata works just like DB server with SAN</a:t>
            </a:r>
            <a:endParaRPr b="0" lang="en-US" sz="32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What is Exadata?</a:t>
            </a:r>
            <a:endParaRPr b="0" lang="en-US" sz="8400" spc="-1" strike="noStrike">
              <a:solidFill>
                <a:srgbClr val="000000"/>
              </a:solidFill>
              <a:latin typeface="Arial"/>
            </a:endParaRPr>
          </a:p>
        </p:txBody>
      </p:sp>
      <p:sp>
        <p:nvSpPr>
          <p:cNvPr id="121" name="TextBox 1"/>
          <p:cNvSpPr/>
          <p:nvPr/>
        </p:nvSpPr>
        <p:spPr>
          <a:xfrm>
            <a:off x="558720" y="3733920"/>
            <a:ext cx="1173492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mplete Oracle database server</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Disk storage system </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CPU, memory, network hardware</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Operating system</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Database software</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Fully installed and configured</a:t>
            </a:r>
            <a:endParaRPr b="0" lang="en-US" sz="42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How to Use Exadata Smart Scan</a:t>
            </a:r>
            <a:endParaRPr b="0" lang="en-US" sz="7600" spc="-1" strike="noStrike">
              <a:solidFill>
                <a:srgbClr val="000000"/>
              </a:solidFill>
              <a:latin typeface="Arial"/>
            </a:endParaRPr>
          </a:p>
        </p:txBody>
      </p:sp>
      <p:sp>
        <p:nvSpPr>
          <p:cNvPr id="158" name="TextBox 1"/>
          <p:cNvSpPr/>
          <p:nvPr/>
        </p:nvSpPr>
        <p:spPr>
          <a:xfrm>
            <a:off x="482760" y="4114800"/>
            <a:ext cx="1173456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Queries with full table scans automatically do Smart Scans</a:t>
            </a:r>
            <a:endParaRPr b="0" lang="en-US" sz="36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Drop indexes</a:t>
            </a:r>
            <a:endParaRPr b="0" lang="en-US" sz="36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Make indexes invisible</a:t>
            </a:r>
            <a:endParaRPr b="0" lang="en-US" sz="36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Increase optimizer_index_cost_adj to discourage index use</a:t>
            </a:r>
            <a:endParaRPr b="0" lang="en-US" sz="36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Use FULL hints to force full scans</a:t>
            </a:r>
            <a:endParaRPr b="0" lang="en-US" sz="36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How to avoid Smart Scan</a:t>
            </a:r>
            <a:endParaRPr b="0" lang="en-US" sz="7600" spc="-1" strike="noStrike">
              <a:solidFill>
                <a:srgbClr val="000000"/>
              </a:solidFill>
              <a:latin typeface="Arial"/>
            </a:endParaRPr>
          </a:p>
        </p:txBody>
      </p:sp>
      <p:sp>
        <p:nvSpPr>
          <p:cNvPr id="160" name="TextBox 1"/>
          <p:cNvSpPr/>
          <p:nvPr/>
        </p:nvSpPr>
        <p:spPr>
          <a:xfrm>
            <a:off x="558720" y="3733920"/>
            <a:ext cx="11734920" cy="457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Add indexes and verify that plan uses them</a:t>
            </a:r>
            <a:endParaRPr b="0" lang="en-US" sz="36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Add INDEX hint to force index use</a:t>
            </a:r>
            <a:endParaRPr b="0" lang="en-US" sz="36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t CELL_OFFLOAD_PROCESSING to FALSE</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alter system set CELL_OFFLOAD_PROCESSING=FALSE;</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alter session set CELL_OFFLOAD_PROCESSING=FALSE;</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hint - OPT_PARAM('cell_offload_processing' 'false')</a:t>
            </a:r>
            <a:r>
              <a:rPr b="0" lang="en-US" sz="4200" spc="-1" strike="noStrike">
                <a:solidFill>
                  <a:srgbClr val="000000"/>
                </a:solidFill>
                <a:latin typeface="Gill Sans"/>
                <a:ea typeface="ヒラギノ角ゴ ProN W3"/>
              </a:rPr>
              <a:t> </a:t>
            </a:r>
            <a:endParaRPr b="0" lang="en-US" sz="42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Moving an existing application to Exadata</a:t>
            </a:r>
            <a:endParaRPr b="0" lang="en-US" sz="7600" spc="-1" strike="noStrike">
              <a:solidFill>
                <a:srgbClr val="000000"/>
              </a:solidFill>
              <a:latin typeface="Arial"/>
            </a:endParaRPr>
          </a:p>
        </p:txBody>
      </p:sp>
      <p:sp>
        <p:nvSpPr>
          <p:cNvPr id="162" name="TextBox 1"/>
          <p:cNvSpPr/>
          <p:nvPr/>
        </p:nvSpPr>
        <p:spPr>
          <a:xfrm>
            <a:off x="406440" y="4267080"/>
            <a:ext cx="117349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ry these options and see which is faster:</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Indexes visible or invisible</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optimizer_index_cost_adj normal (100) or high (&gt; 100)</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CELL_OFFLOAD_PROCESSING=FALSE or TRUE</a:t>
            </a:r>
            <a:endParaRPr b="0" lang="en-US" sz="36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All of these options can be tested without changing the application</a:t>
            </a:r>
            <a:endParaRPr b="0" lang="en-US" sz="3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Why use Exadata?</a:t>
            </a:r>
            <a:endParaRPr b="0" lang="en-US" sz="8400" spc="-1" strike="noStrike">
              <a:solidFill>
                <a:srgbClr val="000000"/>
              </a:solidFill>
              <a:latin typeface="Arial"/>
            </a:endParaRPr>
          </a:p>
        </p:txBody>
      </p:sp>
      <p:sp>
        <p:nvSpPr>
          <p:cNvPr id="164" name="TextBox 1"/>
          <p:cNvSpPr/>
          <p:nvPr/>
        </p:nvSpPr>
        <p:spPr>
          <a:xfrm>
            <a:off x="558720" y="3733920"/>
            <a:ext cx="1173492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New set of performance enhancing features</a:t>
            </a:r>
            <a:endParaRPr b="0" lang="en-US" sz="4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ll other Oracle features still available</a:t>
            </a:r>
            <a:endParaRPr b="0" lang="en-US" sz="4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Easy to use new features</a:t>
            </a:r>
            <a:endParaRPr b="0" lang="en-US" sz="4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Easy to bypass new features</a:t>
            </a:r>
            <a:endParaRPr b="0" lang="en-US" sz="42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Things to watch out for</a:t>
            </a:r>
            <a:endParaRPr b="0" lang="en-US" sz="8400" spc="-1" strike="noStrike">
              <a:solidFill>
                <a:srgbClr val="000000"/>
              </a:solidFill>
              <a:latin typeface="Arial"/>
            </a:endParaRPr>
          </a:p>
        </p:txBody>
      </p:sp>
      <p:sp>
        <p:nvSpPr>
          <p:cNvPr id="166" name="TextBox 1"/>
          <p:cNvSpPr/>
          <p:nvPr/>
        </p:nvSpPr>
        <p:spPr>
          <a:xfrm>
            <a:off x="558720" y="3733920"/>
            <a:ext cx="1173492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lash memory (storage server cache) slow</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Normal RAM – 1000x faster than disk</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Cell server cache (Flash) – 10x faster than disk</a:t>
            </a:r>
            <a:endParaRPr b="0" lang="en-US" sz="36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an’t control, no documentation for storage indexes</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What columns are they on?</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What column types can they be on?</a:t>
            </a:r>
            <a:endParaRPr b="0" lang="en-US" sz="36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Things to watch out for – page 2</a:t>
            </a:r>
            <a:endParaRPr b="0" lang="en-US" sz="7600" spc="-1" strike="noStrike">
              <a:solidFill>
                <a:srgbClr val="000000"/>
              </a:solidFill>
              <a:latin typeface="Arial"/>
            </a:endParaRPr>
          </a:p>
        </p:txBody>
      </p:sp>
      <p:sp>
        <p:nvSpPr>
          <p:cNvPr id="168" name="TextBox 1"/>
          <p:cNvSpPr/>
          <p:nvPr/>
        </p:nvSpPr>
        <p:spPr>
          <a:xfrm>
            <a:off x="406440" y="4267080"/>
            <a:ext cx="1173492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atabases tuned for Exadata are not portable</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Datafiles with HCC won’t work on non-Exadata system</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Applications that have been tuned to work well on Exadata will be slow on non-Exadata</a:t>
            </a:r>
            <a:endParaRPr b="0" lang="en-US" sz="3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oor performance of TEMP space</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Like all RAC systems with many nodes moving temp space from node to node kills performance.  </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Newer X2-8 may address this – 2 node RAC</a:t>
            </a:r>
            <a:endParaRPr b="0" lang="en-US" sz="32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Things to watch out for – page 3</a:t>
            </a:r>
            <a:endParaRPr b="0" lang="en-US" sz="7600" spc="-1" strike="noStrike">
              <a:solidFill>
                <a:srgbClr val="000000"/>
              </a:solidFill>
              <a:latin typeface="Arial"/>
            </a:endParaRPr>
          </a:p>
        </p:txBody>
      </p:sp>
      <p:sp>
        <p:nvSpPr>
          <p:cNvPr id="170" name="TextBox 1"/>
          <p:cNvSpPr/>
          <p:nvPr/>
        </p:nvSpPr>
        <p:spPr>
          <a:xfrm>
            <a:off x="482760" y="4267080"/>
            <a:ext cx="1173456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HCC and tables &gt; 255 columns buggy</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Wrong results, errors</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Wrong optimizer stats</a:t>
            </a:r>
            <a:endParaRPr b="0" lang="en-US" sz="3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Newness issues</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Bugs, hangs, crashes, unexpected results</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Lack of documentation</a:t>
            </a:r>
            <a:endParaRPr b="0" lang="en-US" sz="3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ヒラギノ角ゴ ProN W3"/>
              </a:rPr>
              <a:t>Lack of trained people</a:t>
            </a:r>
            <a:endParaRPr b="0" lang="en-US" sz="3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Recommendations</a:t>
            </a:r>
            <a:endParaRPr b="0" lang="en-US" sz="8400" spc="-1" strike="noStrike">
              <a:solidFill>
                <a:srgbClr val="000000"/>
              </a:solidFill>
              <a:latin typeface="Arial"/>
            </a:endParaRPr>
          </a:p>
        </p:txBody>
      </p:sp>
      <p:sp>
        <p:nvSpPr>
          <p:cNvPr id="172" name="TextBox 1"/>
          <p:cNvSpPr/>
          <p:nvPr/>
        </p:nvSpPr>
        <p:spPr>
          <a:xfrm>
            <a:off x="558720" y="3733920"/>
            <a:ext cx="1173492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mall number of RAC nodes – 2 if possible</a:t>
            </a:r>
            <a:endParaRPr b="0" lang="en-US" sz="4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Use as few new features as possible</a:t>
            </a:r>
            <a:endParaRPr b="0" lang="en-US" sz="4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ewer than 256 columns per table</a:t>
            </a:r>
            <a:endParaRPr b="0" lang="en-US" sz="4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Get Exadata VM from Oracle for sandbox</a:t>
            </a:r>
            <a:endParaRPr b="0" lang="en-US" sz="4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Exalogic – can connect to DB via Infiniband</a:t>
            </a:r>
            <a:endParaRPr b="0" lang="en-US" sz="4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witch our DB links to IB</a:t>
            </a:r>
            <a:endParaRPr b="0" lang="en-US" sz="42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Questions?</a:t>
            </a:r>
            <a:endParaRPr b="0" lang="en-US" sz="8400" spc="-1" strike="noStrike">
              <a:solidFill>
                <a:srgbClr val="000000"/>
              </a:solidFill>
              <a:latin typeface="Arial"/>
            </a:endParaRPr>
          </a:p>
        </p:txBody>
      </p:sp>
      <p:sp>
        <p:nvSpPr>
          <p:cNvPr id="174"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marL="838080" indent="-57132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ttp://www.bobbydurrettdba.com/</a:t>
            </a:r>
            <a:endParaRPr b="0" lang="en-US" sz="4200" spc="-1" strike="noStrike">
              <a:solidFill>
                <a:srgbClr val="000000"/>
              </a:solidFill>
              <a:latin typeface="Arial"/>
            </a:endParaRPr>
          </a:p>
          <a:p>
            <a:pPr marL="838080" indent="-57132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obby@bobbydurrettdba.com</a:t>
            </a:r>
            <a:endParaRPr b="0" lang="en-US" sz="4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177840" y="990720"/>
            <a:ext cx="5137200" cy="6850080"/>
          </a:xfrm>
          <a:prstGeom prst="rect">
            <a:avLst/>
          </a:prstGeom>
          <a:ln w="0">
            <a:noFill/>
          </a:ln>
        </p:spPr>
      </p:pic>
      <p:sp>
        <p:nvSpPr>
          <p:cNvPr id="123" name="TextBox 1"/>
          <p:cNvSpPr/>
          <p:nvPr/>
        </p:nvSpPr>
        <p:spPr>
          <a:xfrm>
            <a:off x="5283360" y="1523880"/>
            <a:ext cx="647676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ell Storage servers</a:t>
            </a:r>
            <a:endParaRPr b="0" lang="en-US" sz="4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ntel-based Linux servers</a:t>
            </a:r>
            <a:endParaRPr b="0" lang="en-US" sz="4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with disk drives</a:t>
            </a:r>
            <a:endParaRPr b="0" lang="en-US" sz="4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14 cell servers per rack</a:t>
            </a:r>
            <a:endParaRPr b="0" lang="en-US" sz="4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7 on top, 7 on bottom</a:t>
            </a:r>
            <a:endParaRPr b="0" lang="en-US" sz="4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12 disks per server</a:t>
            </a:r>
            <a:endParaRPr b="0" lang="en-US" sz="42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Box 1"/>
          <p:cNvSpPr/>
          <p:nvPr/>
        </p:nvSpPr>
        <p:spPr>
          <a:xfrm>
            <a:off x="5130720" y="2514600"/>
            <a:ext cx="746784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3 Infiniband network switches</a:t>
            </a:r>
            <a:endParaRPr b="0" lang="en-US" sz="4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1 on top, 2 on bottom</a:t>
            </a:r>
            <a:endParaRPr b="0" lang="en-US" sz="4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8 Intel Linux database servers</a:t>
            </a:r>
            <a:endParaRPr b="0" lang="en-US" sz="4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4 on bottom, 4 on top</a:t>
            </a:r>
            <a:endParaRPr b="0" lang="en-US" sz="4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125" name="" descr=""/>
          <p:cNvPicPr/>
          <p:nvPr/>
        </p:nvPicPr>
        <p:blipFill>
          <a:blip r:embed="rId2"/>
          <a:stretch/>
        </p:blipFill>
        <p:spPr>
          <a:xfrm>
            <a:off x="0" y="1295280"/>
            <a:ext cx="5146560" cy="6863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What is standard about Exadata?</a:t>
            </a:r>
            <a:endParaRPr b="0" lang="en-US" sz="7600" spc="-1" strike="noStrike">
              <a:solidFill>
                <a:srgbClr val="000000"/>
              </a:solidFill>
              <a:latin typeface="Arial"/>
            </a:endParaRPr>
          </a:p>
        </p:txBody>
      </p:sp>
      <p:sp>
        <p:nvSpPr>
          <p:cNvPr id="127" name="TextBox 1"/>
          <p:cNvSpPr/>
          <p:nvPr/>
        </p:nvSpPr>
        <p:spPr>
          <a:xfrm>
            <a:off x="330120" y="4191120"/>
            <a:ext cx="1173492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Off the shelf hardware</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Intel x86 processors</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Standard Sun disk drives, memory</a:t>
            </a:r>
            <a:endParaRPr b="0" lang="en-US" sz="42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ヒラギノ角ゴ ProN W3"/>
              </a:rPr>
              <a:t>Infiniband network adapters and switches</a:t>
            </a:r>
            <a:endParaRPr b="0" lang="en-US" sz="4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Linux operating system</a:t>
            </a:r>
            <a:endParaRPr b="0" lang="en-US" sz="4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Oracle 11gR2 database software</a:t>
            </a:r>
            <a:endParaRPr b="0" lang="en-US" sz="42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What is unique about Exadata?</a:t>
            </a:r>
            <a:endParaRPr b="0" lang="en-US" sz="7600" spc="-1" strike="noStrike">
              <a:solidFill>
                <a:srgbClr val="000000"/>
              </a:solidFill>
              <a:latin typeface="Arial"/>
            </a:endParaRPr>
          </a:p>
        </p:txBody>
      </p:sp>
      <p:sp>
        <p:nvSpPr>
          <p:cNvPr id="129" name="TextBox 1"/>
          <p:cNvSpPr/>
          <p:nvPr/>
        </p:nvSpPr>
        <p:spPr>
          <a:xfrm>
            <a:off x="558720" y="4419720"/>
            <a:ext cx="117349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torage Servers have Oracle database specific features</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Smart Scan – returns only needed data</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Storage Indexes – only accesses needed disk blocks</a:t>
            </a:r>
            <a:endParaRPr b="0" lang="en-US" sz="3600" spc="-1" strike="noStrike">
              <a:solidFill>
                <a:srgbClr val="000000"/>
              </a:solidFill>
              <a:latin typeface="Gill Sans"/>
            </a:endParaRPr>
          </a:p>
          <a:p>
            <a:pPr lvl="1" marL="743040" indent="-285840">
              <a:lnSpc>
                <a:spcPct val="10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ヒラギノ角ゴ ProN W3"/>
              </a:rPr>
              <a:t>Hybrid Columnar Compression – fits data into fewer disk blocks</a:t>
            </a:r>
            <a:endParaRPr b="0" lang="en-US" sz="36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58360" y="1752480"/>
            <a:ext cx="11703240" cy="162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00"/>
                </a:solidFill>
                <a:latin typeface="Arial"/>
              </a:rPr>
              <a:t>Rows, Columns, and Blocks</a:t>
            </a:r>
            <a:endParaRPr b="0" lang="en-US" sz="7600" spc="-1" strike="noStrike">
              <a:solidFill>
                <a:srgbClr val="000000"/>
              </a:solidFill>
              <a:latin typeface="Arial"/>
            </a:endParaRPr>
          </a:p>
        </p:txBody>
      </p:sp>
      <p:sp>
        <p:nvSpPr>
          <p:cNvPr id="131" name="TextBox 1"/>
          <p:cNvSpPr/>
          <p:nvPr/>
        </p:nvSpPr>
        <p:spPr>
          <a:xfrm>
            <a:off x="482760" y="4495680"/>
            <a:ext cx="1173456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 SQL table is a collection of rows – one row per sale</a:t>
            </a:r>
            <a:endParaRPr b="0" lang="en-US" sz="3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 row is a list of columns – date, product, customer, amount,…</a:t>
            </a:r>
            <a:endParaRPr b="0" lang="en-US" sz="3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 table is broken up into equal sized blocks each with a number of rows = block size/row size = 8000 bytes/80 bytes = 100 rows per block</a:t>
            </a:r>
            <a:endParaRPr b="0" lang="en-US" sz="3200" spc="-1" strike="noStrike">
              <a:solidFill>
                <a:srgbClr val="000000"/>
              </a:solidFill>
              <a:latin typeface="Gill Sans"/>
            </a:endParaRPr>
          </a:p>
          <a:p>
            <a:pP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esults of queries are a subset of the columns and a subset of the rows of a table</a:t>
            </a:r>
            <a:endParaRPr b="0" lang="en-US" sz="32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Query</a:t>
            </a:r>
            <a:endParaRPr b="0" lang="en-US" sz="8400" spc="-1" strike="noStrike">
              <a:solidFill>
                <a:srgbClr val="000000"/>
              </a:solidFill>
              <a:latin typeface="Arial"/>
            </a:endParaRPr>
          </a:p>
        </p:txBody>
      </p:sp>
      <p:sp>
        <p:nvSpPr>
          <p:cNvPr id="133" name=""/>
          <p:cNvSpPr/>
          <p:nvPr/>
        </p:nvSpPr>
        <p:spPr>
          <a:xfrm>
            <a:off x="0" y="1981080"/>
            <a:ext cx="1249668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select </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sale_date, product_name, customer_name, amount</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from sales, products, customers</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where</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sales.product_number=products.product_number and</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sales.customer_number=customers.customer_number and</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sale_date between </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to_date('01/01/2012','MM/DD/YYYY') and </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to_date('01/31/2012','MM/DD/YYYY') and</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product_type = 'Cheese' and</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customer_state = 'FL';</a:t>
            </a:r>
            <a:endParaRPr b="0" lang="en-US" sz="32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Arial"/>
              </a:rPr>
              <a:t>Plan</a:t>
            </a:r>
            <a:endParaRPr b="0" lang="en-US" sz="8400" spc="-1" strike="noStrike">
              <a:solidFill>
                <a:srgbClr val="000000"/>
              </a:solidFill>
              <a:latin typeface="Arial"/>
            </a:endParaRPr>
          </a:p>
        </p:txBody>
      </p:sp>
      <p:sp>
        <p:nvSpPr>
          <p:cNvPr id="135" name=""/>
          <p:cNvSpPr/>
          <p:nvPr/>
        </p:nvSpPr>
        <p:spPr>
          <a:xfrm>
            <a:off x="0" y="2378160"/>
            <a:ext cx="1300464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Id  | Operation                   | Name      | Rows  | Bytes | Cost (%CPU)| Time     |</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 | SELECT STATEMENT            |           |       |       |    10 (100)|          |</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 |  HASH JOIN                  |           |     4 |   232 |    10  (10)| 00:00:01 |</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 |   HASH JOIN                 |           |     4 |   136 |     7  (15)| 00:00:01 |</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 |    TABLE ACCESS STORAGE FULL| PRODUCTS  |     2 |    34 |     3   (0)| 00:00:01 |</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4 |    TABLE ACCESS STORAGE FULL| SALES     |     4 |    68 |     3   (0)| 00:00:01 |</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 |   TABLE ACCESS STORAGE FULL | CUSTOMERS |     2 |    48 |     3   (0)| 00:00:01 |</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lison Dixon</dc:creator>
  <dc:description/>
  <dc:language>en-US</dc:language>
  <cp:lastModifiedBy>US Foodservice</cp:lastModifiedBy>
  <dcterms:modified xsi:type="dcterms:W3CDTF">2013-03-22T23:03:54Z</dcterms:modified>
  <cp:revision>151</cp:revision>
  <dc:subject/>
  <dc:title>PowerPoint Presentation</dc:title>
</cp:coreProperties>
</file>